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5FA-9B9D-49E9-AA38-F1B9B04F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D78-4121-4D9C-BE0C-CEE08E83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BAA-CFCA-42A0-8F3E-6F656EBB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C62-8FE2-493C-9581-3A62CCC3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1D9-A1FB-42E1-B11F-52D0D34E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1D85-4249-44DF-A96C-A78AECFF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3583-B798-4840-BCAF-F8194D94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90A-9B37-4BBD-9465-B611EB0A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270-F364-4616-813C-5CFC0A59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C55-3CB2-4743-B4E0-CEBB5A7A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3A93-8817-42A3-9A3E-EF6D4F7C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788-5FF1-445C-A02E-61ABE21C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30F7-538C-476F-BA51-895484D18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www.ljplus.ru/img2/pycaky/City-Hall,-Vienna,-Austria.jpg&amp;imgrefurl=http://www.cfkeep.org/html/snapshot.php%3Fid%3D26456094557844&amp;h=1200&amp;w=1600&amp;sz=305&amp;hl=en&amp;start=1&amp;tbnid=HM_0Kg0N4MUGLM:&amp;tbnh=113&amp;tbnw=150&amp;prev=/images%3Fq%3DCity%2Bof%2BVienna%26gbv%3D2%26svnum%3D10%26hl%3Den%26sa%3D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en.wikipedia.org/wiki/Image:Wiener_Riesenrad_dsc02961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analetto_%28I%29_058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5754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gress of Vien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s and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e Klemens von Metternic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ustrian Foreign Minis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00280" y="2000160"/>
            <a:ext cx="2143440" cy="2857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19320" y="54100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d over the Congress:  Legitimacy and Balance of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After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ess of Vienna, 18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819520" cy="212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2438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0" y="380880"/>
            <a:ext cx="4000680" cy="2592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19920" y="32004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Building in Vi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28600" y="28954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943600" y="4267080"/>
            <a:ext cx="2857680" cy="1933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352680" y="3200400"/>
            <a:ext cx="2232000" cy="3395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8080" y="5410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i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995640" cy="299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4300560" cy="3224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10080" y="28954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nube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28600" y="33526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5791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411480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2114280" cy="327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10080" y="3809880"/>
            <a:ext cx="1905120" cy="2552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90720" y="32004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09480" y="60948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The Riesenrad in the Wiener Prate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533520"/>
            <a:ext cx="2381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Vienna during the first half of the 18th century, painting by Canaletto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523880"/>
            <a:ext cx="7086600" cy="4535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enna 180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quiry Ques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, direction which way should Europe turn?  As you are the leaders of Europe clean up the mess left by Napoleon!  Prioritize your ai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Issu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P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ar Alexander I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2381400" cy="3733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05120" y="5943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Frederic William III of P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2379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572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d Castlereagh the British Foreign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495288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2271960" cy="3200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5562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Maurice de Talleyrand, F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2714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21:21:52Z</dcterms:created>
  <dc:creator>Ecole Plamondon School</dc:creator>
  <dc:description/>
  <dc:language>en-US</dc:language>
  <cp:lastModifiedBy>Ecole Plamondon School</cp:lastModifiedBy>
  <dcterms:modified xsi:type="dcterms:W3CDTF">2007-02-19T22:13:32Z</dcterms:modified>
  <cp:revision>2</cp:revision>
  <dc:subject/>
  <dc:title>The Congress of Vienna</dc:title>
</cp:coreProperties>
</file>